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98293-3528-470A-9FF1-A8CF81C50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4A862-820B-4A42-818C-E5BCC21F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13652E-E493-4E35-B130-28BFD69034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5F1940-4804-4760-B71F-92275E901C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4A200A-B91D-4748-8CE1-591124CD53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69E96A-7FAB-4ADB-99D1-6CF45BC1B2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1C22D3-FE41-4426-A97D-6EA4C7E831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DA3071-BB64-491C-B2BE-EF866BF0DD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70B6A2-E698-443B-92D2-C2A07FCEE5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B835A53-A0C8-438B-B51D-5CC60C6E36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511F2F7-7769-4D08-8E9A-FC279F39365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997E6-FCAA-4DE6-BD9F-FEFDFAD89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FD5AD-7581-4DA5-949C-BCDFC4E83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DC7996-FF82-47E3-A7BE-690DB0159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EA4305E1-CCBB-4208-BAB3-5FABFE890D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EA148078-AF85-4EAD-B8B8-19D4506B86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09512A2D-A457-4A4E-B974-D0C084B07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4"/>
          </p:nvPr>
        </p:nvSpPr>
        <p:spPr/>
        <p:txBody>
          <a:bodyPr/>
          <a:p>
            <a:fld id="{8466943C-A8D5-4CD2-8F97-DCC2337706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4"/>
          </p:nvPr>
        </p:nvSpPr>
        <p:spPr/>
        <p:txBody>
          <a:bodyPr/>
          <a:p>
            <a:fld id="{27B517DB-7874-4791-BF36-ADD59F05A1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E97566A5-CD0E-41E2-833C-00AD5E2D8E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11CDC-E65E-4147-8794-D13CBFD3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D93D79E8-A93D-4B71-9B78-D206F02C58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5C908737-3291-4707-8B0B-16AF48B620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4741CBDE-7545-430B-93CD-7A16497D0B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4"/>
          </p:nvPr>
        </p:nvSpPr>
        <p:spPr/>
        <p:txBody>
          <a:bodyPr/>
          <a:p>
            <a:fld id="{920B6CEC-10BF-45B5-9786-52FDF7BF1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4"/>
          </p:nvPr>
        </p:nvSpPr>
        <p:spPr/>
        <p:txBody>
          <a:bodyPr/>
          <a:p>
            <a:fld id="{2D4F0C0A-29FB-4230-869D-B8753FAA64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A46C7-B624-4996-9959-DC916433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DC22-D20F-4131-9025-04E1A30B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582DA-1D16-4250-88B3-526608694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CCAEF-D18F-448B-ADA3-6DDA8003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1981-9AAF-4789-A697-878B7B19F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32EF-FF9B-4AF0-BB9E-B5AE58C7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9FAA-E624-450C-A03F-D41FBC44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8D25227-2925-4FA3-80C6-D50DD24B1A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CFD965-6EDA-4B09-B861-54F46237D2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28F7DF-A5B6-4E87-870C-BCDCB532471F}" type="slidenum">
              <a:t>&lt;#&gt;</a:t>
            </a:fld>
          </a:p>
        </p:txBody>
      </p:sp>
      <p:sp>
        <p:nvSpPr>
          <p:cNvPr id="6" name="PlaceHolder 5"/>
          <p:cNvSpPr>
            <a:spLocks noGrp="1"/>
          </p:cNvSpPr>
          <p:nvPr>
            <p:ph type="dt" idx="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6A59-5647-401E-B1A0-322DC40C8554}" type="datetime">
              <a:rPr b="0" lang="en-US" sz="1200" spc="-1" strike="noStrike">
                <a:solidFill>
                  <a:srgbClr val="898989"/>
                </a:solidFill>
                <a:latin typeface="Garamond"/>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BBB2-3886-4167-A52F-AF2E3DBF498D}" type="slidenum">
              <a:rPr b="0" lang="en-US" sz="1200" spc="-1" strike="noStrike">
                <a:solidFill>
                  <a:srgbClr val="898989"/>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A839-BCFA-4F4E-BAB1-C541805D31D9}"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42"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E761-B10A-49BA-B405-F5AA7CAEFB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3"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coverPageBanner.gif"/>
          <p:cNvPicPr/>
          <p:nvPr/>
        </p:nvPicPr>
        <p:blipFill>
          <a:blip r:embed="rId2"/>
          <a:stretch/>
        </p:blipFill>
        <p:spPr>
          <a:xfrm>
            <a:off x="0" y="-6480"/>
            <a:ext cx="9144000" cy="1830600"/>
          </a:xfrm>
          <a:prstGeom prst="rect">
            <a:avLst/>
          </a:prstGeom>
          <a:ln w="0">
            <a:noFill/>
          </a:ln>
        </p:spPr>
      </p:pic>
      <p:sp>
        <p:nvSpPr>
          <p:cNvPr id="81" name="Rectangle 7"/>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C0DB-CB5A-437D-B2EB-D51B5626DA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97" name="Picture 3" descr="coverPageCorner.gif"/>
          <p:cNvPicPr/>
          <p:nvPr/>
        </p:nvPicPr>
        <p:blipFill>
          <a:blip r:embed="rId2"/>
          <a:stretch/>
        </p:blipFill>
        <p:spPr>
          <a:xfrm>
            <a:off x="6438960" y="6040440"/>
            <a:ext cx="2705040" cy="817560"/>
          </a:xfrm>
          <a:prstGeom prst="rect">
            <a:avLst/>
          </a:prstGeom>
          <a:ln w="0">
            <a:noFill/>
          </a:ln>
        </p:spPr>
      </p:pic>
      <p:sp>
        <p:nvSpPr>
          <p:cNvPr id="198"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C154-C092-4925-8AF1-A3B100A5B79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37"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F2BE-4510-4761-B36B-0A7BC94223A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75" name="Picture 3" descr="coverPageCorner.gif"/>
          <p:cNvPicPr/>
          <p:nvPr/>
        </p:nvPicPr>
        <p:blipFill>
          <a:blip r:embed="rId2"/>
          <a:stretch/>
        </p:blipFill>
        <p:spPr>
          <a:xfrm>
            <a:off x="6438960" y="6040440"/>
            <a:ext cx="2705040" cy="817560"/>
          </a:xfrm>
          <a:prstGeom prst="rect">
            <a:avLst/>
          </a:prstGeom>
          <a:ln w="0">
            <a:noFill/>
          </a:ln>
        </p:spPr>
      </p:pic>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2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AD48-F3B7-48FB-949C-5AE6D608A1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315" name="Picture 3" descr="coverPageCorner.gif"/>
          <p:cNvPicPr/>
          <p:nvPr/>
        </p:nvPicPr>
        <p:blipFill>
          <a:blip r:embed="rId2"/>
          <a:stretch/>
        </p:blipFill>
        <p:spPr>
          <a:xfrm>
            <a:off x="6438960" y="6040440"/>
            <a:ext cx="2705040" cy="817560"/>
          </a:xfrm>
          <a:prstGeom prst="rect">
            <a:avLst/>
          </a:prstGeom>
          <a:ln w="0">
            <a:noFill/>
          </a:ln>
        </p:spPr>
      </p:pic>
      <p:sp>
        <p:nvSpPr>
          <p:cNvPr id="316"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ADF9-8F64-4F2D-8F89-F201A751447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7" name="PlaceHolder 2"/>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A75D-308E-410D-996B-832476959F66}"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5</a:t>
            </a:r>
            <a:endParaRPr b="1" lang="en-US" sz="3200" spc="-1" strike="noStrike">
              <a:solidFill>
                <a:srgbClr val="50ae58"/>
              </a:solidFill>
              <a:latin typeface="Verdana"/>
            </a:endParaRPr>
          </a:p>
        </p:txBody>
      </p:sp>
      <p:sp>
        <p:nvSpPr>
          <p:cNvPr id="356" name="PlaceHolder 2"/>
          <p:cNvSpPr>
            <a:spLocks noGrp="1"/>
          </p:cNvSpPr>
          <p:nvPr>
            <p:ph type="subTitle"/>
          </p:nvPr>
        </p:nvSpPr>
        <p:spPr>
          <a:xfrm>
            <a:off x="1447920" y="2879640"/>
            <a:ext cx="4324320" cy="42408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Landmine awareness</a:t>
            </a:r>
            <a:endParaRPr b="0" lang="en-US" sz="3200" spc="-1" strike="noStrike">
              <a:solidFill>
                <a:srgbClr val="000000"/>
              </a:solidFill>
              <a:latin typeface="Garamond"/>
            </a:endParaRPr>
          </a:p>
        </p:txBody>
      </p:sp>
      <p:pic>
        <p:nvPicPr>
          <p:cNvPr id="357" name="Picture 3" descr="ARC-C5-lanAwa.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ogramme planning</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tegic planning seeks to identify an overarching mine risk education strategy to respond to the identified needs of at-risk commun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nning is not a one-time activity. Rather it is a process that is reviewed and updated on a regular basis incorporating the results of project and programme monitoring and evaluations, and ensuring the participation of affected communities, including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planning process involves setting the overall objectives of the programme or project, and then setting a series of enabling objectives and activities to achieve th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ally when planning an MRE project, it is important to coordinate with all stakeholders involv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mplementation strategies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RE seeks to reduce casualties from mines and ERW through influencing safe behaviour in target population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mine risk education messages to be effective, they must reflect both the social realities and how local people interpret the current mine-contamination situation as a probl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golden rule for every effort to promote safe behaviour is that there must be a positive messag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ld-to-child is an effective approach using children’s’ participation at every stage. This empowers children to take responsibility, both for themselves and for changing the behaviour of othe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eld-testing the messages and the approach should always be carried out before programme activities are launch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5</a:t>
            </a:r>
            <a:endParaRPr b="0" lang="en-US" sz="18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Monitoring, evaluation and learning</a:t>
            </a:r>
            <a:endParaRPr b="0" lang="en-US" sz="1800" spc="-1" strike="noStrike">
              <a:solidFill>
                <a:srgbClr val="000000"/>
              </a:solidFill>
              <a:latin typeface="Arial"/>
            </a:endParaRPr>
          </a:p>
          <a:p>
            <a:pPr lvl="2">
              <a:lnSpc>
                <a:spcPts val="2398"/>
              </a:lnSpc>
              <a:spcBef>
                <a:spcPts val="300"/>
              </a:spcBef>
              <a:spcAft>
                <a:spcPts val="601"/>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ights-based monitoring and evaluation should be participatory, thereby involving children themselves, culturally appropriate, ethical and monitor fulfilment of rights as well as needs related to mine risk education.</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purpose of participatory monitoring and evaluation is twofold:</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improve programme effectiveness by incorporating the input of children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and communities involved in or affected by implementation</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build capacity to reflect on challenges confronting the programme and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negotiate solutions amongst themselv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Monitoring and evaluation should asses both number of children or people reached through MRE (output) and their level of knowledge, skills and behaviour that has changed as a result of MRE (outcome). </a:t>
            </a:r>
            <a:endParaRPr b="0" lang="en-US" sz="1400" spc="-1" strike="noStrike">
              <a:solidFill>
                <a:srgbClr val="000000"/>
              </a:solidFill>
              <a:latin typeface="Arial"/>
            </a:endParaRPr>
          </a:p>
          <a:p>
            <a:pPr lvl="4" marL="216000" indent="-216000">
              <a:lnSpc>
                <a:spcPts val="2398"/>
              </a:lnSpc>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quantitative and qualitative data or indicators need to be identified and used which will show change or difference in the behaviours and attitudes of children and communities affected by the threat of landmines and ERW.</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mine and ERW casualty data is a way to identify problems, set priorities for mine action and improve programme effectivenes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ualty data can be used as a good indicator for monitoring and evaluation of MRE activities and projects and for analysing the relevance of projects and strategies. </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447920" y="539280"/>
            <a:ext cx="7238880" cy="54039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ver 90% of all landmine and explosive remnants of war (ERW) victims are civilians, half of whom are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affect women and children and their communities in </a:t>
            </a:r>
            <a:br>
              <a:rPr sz="1400"/>
            </a:br>
            <a:r>
              <a:rPr b="0" lang="en-GB" sz="1400" spc="-1" strike="noStrike">
                <a:solidFill>
                  <a:srgbClr val="000000"/>
                </a:solidFill>
                <a:latin typeface="Verdana"/>
              </a:rPr>
              <a:t>over 80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cause not only injury and death among civilians</a:t>
            </a:r>
            <a:br>
              <a:rPr sz="1400"/>
            </a:br>
            <a:r>
              <a:rPr b="0" lang="en-GB" sz="1400" spc="-1" strike="noStrike">
                <a:solidFill>
                  <a:srgbClr val="000000"/>
                </a:solidFill>
                <a:latin typeface="Verdana"/>
              </a:rPr>
              <a:t> but create long-term socioeconomic and development problems in the affected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re </a:t>
            </a:r>
            <a:r>
              <a:rPr b="1" lang="en-GB" sz="1400" spc="-1" strike="noStrike">
                <a:solidFill>
                  <a:srgbClr val="7f7f7f"/>
                </a:solidFill>
                <a:latin typeface="Verdana"/>
              </a:rPr>
              <a:t>blind</a:t>
            </a:r>
            <a:r>
              <a:rPr b="0" lang="en-GB" sz="1400" spc="-1" strike="noStrike">
                <a:solidFill>
                  <a:srgbClr val="000000"/>
                </a:solidFill>
                <a:latin typeface="Verdana"/>
              </a:rPr>
              <a:t>; they cannot tell the difference between a soldier and a child. Simply being a child, with a natural curiosity and desire to play, touch, seek and explore, is risky in an environment contaminated with explosive remnants of war.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1447920" y="539280"/>
            <a:ext cx="7238880" cy="37476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impact of landmine injuries on children</a:t>
            </a:r>
            <a:endParaRPr b="0" lang="en-US" sz="1400" spc="-1" strike="noStrike">
              <a:solidFill>
                <a:srgbClr val="000000"/>
              </a:solidFill>
              <a:latin typeface="Garamond"/>
            </a:endParaRPr>
          </a:p>
        </p:txBody>
      </p:sp>
      <p:pic>
        <p:nvPicPr>
          <p:cNvPr id="361" name="Picture 3" descr="F5-impactOfLandmineInjuries.png"/>
          <p:cNvPicPr/>
          <p:nvPr/>
        </p:nvPicPr>
        <p:blipFill>
          <a:blip r:embed="rId1"/>
          <a:stretch/>
        </p:blipFill>
        <p:spPr>
          <a:xfrm>
            <a:off x="1440000" y="1440000"/>
            <a:ext cx="4394160" cy="46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in populated areas violate nearly every article </a:t>
            </a:r>
            <a:br>
              <a:rPr sz="1400"/>
            </a:br>
            <a:r>
              <a:rPr b="0" lang="en-GB" sz="1400" spc="-1" strike="noStrike">
                <a:solidFill>
                  <a:srgbClr val="000000"/>
                </a:solidFill>
                <a:latin typeface="Verdana"/>
              </a:rPr>
              <a:t>of the CRC.</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on the rights of persons with disabilities (CRPD) provides a framework to address the needs of survivors and to ensure the full realisation of their human rights and respect for their inherent dign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Anti-personnel mine-ban convention (Ottawa treaty or Mine ban treaty (MBT)) is the most comprehensive international instrument for ridding the world of the scourge of mines and deals with everything from mine use, production and trade, to victim assistance, mine clearance and stockpile destruc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process is underway in 2008 to develop a legally binding international instrument that will deal with cluster muni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Relevant legal instruments</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C</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mere presence of landmines and ERW in populated areas violates nearly every article of the CRC, whether the right to life, the right to a safe environment in which to play, adequate education and the right to health. The CRC provides legal, moral and ethical frameworks for assessing and analysing the situation of children living with problems of landmines, and formulating an appropriate respons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PD</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is convention has particular significance for mine action as it details the rights of survivors of mines and ERW. While the convention does not identify new rights, it provides guidance on how to ensure that persons with disabilities can exercise their existing rights without discrimination.</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onvention on the prohibition of the use, stockpiling, production and transfer of anti-personnel mines and on their destruction </a:t>
            </a:r>
            <a:br>
              <a:rPr sz="1400"/>
            </a:br>
            <a:r>
              <a:rPr b="1" lang="en-US" sz="1400" spc="-1" strike="noStrike">
                <a:solidFill>
                  <a:srgbClr val="000000"/>
                </a:solidFill>
                <a:latin typeface="Verdana"/>
                <a:ea typeface="ヒラギノ角ゴ Pro W3"/>
              </a:rPr>
              <a:t>(also called Ottawa treaty or MBT)</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international agreement that bans anti-personnel landmines. The MBT is the most comprehensive international instrument for ridding the world of the scourge of mines and deals with everything from mine use, production and trade, to victim assistance, mine clearance and stockpile destruction. When a country becomes a </a:t>
            </a:r>
            <a:r>
              <a:rPr b="1" lang="en-US" sz="1400" spc="-1" strike="noStrike">
                <a:solidFill>
                  <a:srgbClr val="777777"/>
                </a:solidFill>
                <a:latin typeface="Verdana"/>
                <a:ea typeface="ヒラギノ角ゴ Pro W3"/>
              </a:rPr>
              <a:t>State party</a:t>
            </a:r>
            <a:r>
              <a:rPr b="0" lang="en-US" sz="1400" spc="-1" strike="noStrike">
                <a:solidFill>
                  <a:srgbClr val="000000"/>
                </a:solidFill>
                <a:latin typeface="Verdana"/>
                <a:ea typeface="ヒラギノ角ゴ Pro W3"/>
              </a:rPr>
              <a:t> to the treaty, it agrees never to use, develop, produce, stockpile or transfer anti-personnel landmines. It also commits to destroying all stockpiled anti-personnel landmines within four years; clearing all anti-personnel landmines in territory under its control within 10 years; and, when it is within its means, to provide assistance for mine clearance, mine awareness, stockpile destruction, and victim assistance activities worldwid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vention on certain conventional weapons (CCW) protocols 2 and 5</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mally known as the 1980 convention on prohibitions and restrictions on the use of certain conventional weapons which may be deemed to be excessively injurious or to have indiscriminate effects.  It has five parts or </a:t>
            </a:r>
            <a:r>
              <a:rPr b="0" i="1" lang="en-GB" sz="1400" spc="-1" strike="noStrike">
                <a:solidFill>
                  <a:srgbClr val="000000"/>
                </a:solidFill>
                <a:latin typeface="Verdana"/>
              </a:rPr>
              <a:t>protocols</a:t>
            </a:r>
            <a:r>
              <a:rPr b="0" lang="en-GB" sz="1400" spc="-1" strike="noStrike">
                <a:solidFill>
                  <a:srgbClr val="000000"/>
                </a:solidFill>
                <a:latin typeface="Verdana"/>
              </a:rPr>
              <a:t>, two of which are related to mine action. Amended </a:t>
            </a:r>
            <a:r>
              <a:rPr b="1" lang="en-GB" sz="1400" spc="-1" strike="noStrike">
                <a:solidFill>
                  <a:srgbClr val="7f7f7f"/>
                </a:solidFill>
                <a:latin typeface="Verdana"/>
              </a:rPr>
              <a:t>Protocol 2 </a:t>
            </a:r>
            <a:r>
              <a:rPr b="0" lang="en-GB" sz="1400" spc="-1" strike="noStrike">
                <a:solidFill>
                  <a:srgbClr val="000000"/>
                </a:solidFill>
                <a:latin typeface="Verdana"/>
              </a:rPr>
              <a:t>deals with landmines, booby traps and other devices, and </a:t>
            </a:r>
            <a:r>
              <a:rPr b="1" lang="en-GB" sz="1400" spc="-1" strike="noStrike">
                <a:solidFill>
                  <a:srgbClr val="7f7f7f"/>
                </a:solidFill>
                <a:latin typeface="Verdana"/>
              </a:rPr>
              <a:t>Protocol 5</a:t>
            </a:r>
            <a:r>
              <a:rPr b="0" lang="en-GB" sz="1400" spc="-1" strike="noStrike">
                <a:solidFill>
                  <a:srgbClr val="000000"/>
                </a:solidFill>
                <a:latin typeface="Verdana"/>
              </a:rPr>
              <a:t> deals with the problem of ERW.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ine risk education (MRE) projects should never be implemented without </a:t>
            </a:r>
            <a:br>
              <a:rPr sz="1400"/>
            </a:br>
            <a:r>
              <a:rPr b="0" lang="en-GB" sz="1400" spc="-1" strike="noStrike">
                <a:solidFill>
                  <a:srgbClr val="000000"/>
                </a:solidFill>
                <a:latin typeface="Verdana"/>
              </a:rPr>
              <a:t>first conducting a MRE needs assessment and analysi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olid understanding of needs as a result of explosive hazards, and of existing capacities to respond, is critical to formulating an effective MRE respon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derstanding who is taking risks and why is fundamental to an effective MRE project.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y sources for information are the men, women, and children at school, children out of school, refugees and internally displaced peopl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is also critical to identify existing capacities in national, regional, municipal, community and family level to respond to the variou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1:15:38Z</dcterms:created>
  <dc:creator>Josh</dc:creator>
  <dc:description/>
  <dc:language>en-US</dc:language>
  <cp:lastModifiedBy>Stephen Young</cp:lastModifiedBy>
  <cp:lastPrinted>2009-11-02T09:49:17Z</cp:lastPrinted>
  <dcterms:modified xsi:type="dcterms:W3CDTF">2009-12-04T16:30:48Z</dcterms:modified>
  <cp:revision>26</cp:revision>
  <dc:subject/>
  <dc:title>Slide 1</dc:title>
</cp:coreProperties>
</file>