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4CAE1-E4C6-4126-850C-E46D5212B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6B23CFBD-48B9-43C9-9F35-8D6322EE1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81B01FB2-7FFB-4E7E-8005-22B4D311D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4B638848-06A2-4AE9-8E6B-EF4EDBD41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90FA0880-1E3F-43CF-AF41-A0809C704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7B7EFC70-DAE2-427B-849A-BAB5E11F44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AD4B81BC-451B-4FA4-A5C7-D45BDA2078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8E889922-A6CD-4230-A4E3-667446DD7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D7EC7E94-D3A5-4CF6-8D28-B0B1E7EAD2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F9D17D87-E99C-4CCE-89E8-C3145DDDA0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95A8E317-6C34-4844-8A35-9D8FBAC2E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44D2FCB6-7D43-4F4A-BCC0-617DBDB46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DEFC-E4FB-45E2-8CE1-6B94F5F073E7}"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0D87-17F1-4E72-A4DF-B36DB4C778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D9AE-29E8-47B2-92ED-455B349CA5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2928-84E5-44E5-AC9D-E7D828E0BB9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163D-50F3-4956-8BD7-5A716E1397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1</a:t>
            </a:r>
            <a:endParaRPr b="1" lang="en-US" sz="3200" spc="-1" strike="noStrike">
              <a:solidFill>
                <a:srgbClr val="50ae58"/>
              </a:solidFill>
              <a:latin typeface="Verdana"/>
            </a:endParaRPr>
          </a:p>
        </p:txBody>
      </p:sp>
      <p:sp>
        <p:nvSpPr>
          <p:cNvPr id="158" name="PlaceHolder 2"/>
          <p:cNvSpPr>
            <a:spLocks noGrp="1"/>
          </p:cNvSpPr>
          <p:nvPr>
            <p:ph type="subTitle"/>
          </p:nvPr>
        </p:nvSpPr>
        <p:spPr>
          <a:xfrm>
            <a:off x="1447920" y="2879640"/>
            <a:ext cx="7238880" cy="5587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Abuse and exploitation</a:t>
            </a:r>
            <a:endParaRPr b="0" lang="en-US" sz="3200" spc="-1" strike="noStrike">
              <a:solidFill>
                <a:srgbClr val="000000"/>
              </a:solidFill>
              <a:latin typeface="Garamond"/>
            </a:endParaRPr>
          </a:p>
        </p:txBody>
      </p:sp>
      <p:pic>
        <p:nvPicPr>
          <p:cNvPr id="159" name="Picture 4" descr="ARC-C1-abuExp.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78000"/>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161" name="TextBox 8"/>
          <p:cNvSpPr/>
          <p:nvPr/>
        </p:nvSpPr>
        <p:spPr>
          <a:xfrm>
            <a:off x="1824120" y="695160"/>
            <a:ext cx="1839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1</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issue for children</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child abuse</a:t>
            </a:r>
            <a:r>
              <a:rPr b="0" lang="en-US" sz="1400" spc="-1" strike="noStrike">
                <a:solidFill>
                  <a:srgbClr val="000000"/>
                </a:solidFill>
                <a:latin typeface="Verdana"/>
                <a:ea typeface="ヒラギノ角ゴ Pro W3"/>
              </a:rPr>
              <a:t> includes physical, emotional, sexual abuse </a:t>
            </a:r>
            <a:br>
              <a:rPr sz="1400"/>
            </a:br>
            <a:r>
              <a:rPr b="0" lang="en-US" sz="1400" spc="-1" strike="noStrike">
                <a:solidFill>
                  <a:srgbClr val="000000"/>
                </a:solidFill>
                <a:latin typeface="Verdana"/>
                <a:ea typeface="ヒラギノ角ゴ Pro W3"/>
              </a:rPr>
              <a:t>and neglect.</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exploitation</a:t>
            </a:r>
            <a:r>
              <a:rPr b="0" lang="en-US" sz="1400" spc="-1" strike="noStrike">
                <a:solidFill>
                  <a:srgbClr val="000000"/>
                </a:solidFill>
                <a:latin typeface="Verdana"/>
                <a:ea typeface="ヒラギノ角ゴ Pro W3"/>
              </a:rPr>
              <a:t> can cover a multitude of situations or practices.</a:t>
            </a:r>
            <a:br>
              <a:rPr sz="1400"/>
            </a:br>
            <a:r>
              <a:rPr b="0" lang="en-US" sz="1400" spc="-1" strike="noStrike">
                <a:solidFill>
                  <a:srgbClr val="000000"/>
                </a:solidFill>
                <a:latin typeface="Verdana"/>
                <a:ea typeface="ヒラギノ角ゴ Pro W3"/>
              </a:rPr>
              <a:t>An agreed upon working definition needs to be context appropriate.</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Abuse and exploitation of children are pervasive global phenomena, regardless of socioeconomic status. Their forms may vary by age and sex of the child.</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Both short- and long-term impact of violence against children can be devastating and therefore command the highest priority.</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During an emergency, forms of abuse and exploitation often increase in both scale and severity.</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Some key forms of abuse and exploitation of children ar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physical violenc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worst forms of child labour</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trafficking</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gender-based violence (GBV).</a:t>
            </a:r>
            <a:endParaRPr b="0" lang="en-US" sz="14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447920" y="539280"/>
            <a:ext cx="7238880" cy="5410440"/>
          </a:xfrm>
          <a:prstGeom prst="rect">
            <a:avLst/>
          </a:prstGeom>
          <a:noFill/>
          <a:ln w="0">
            <a:noFill/>
          </a:ln>
        </p:spPr>
        <p:txBody>
          <a:bodyPr lIns="0" rIns="0" tIns="0" bIns="0" anchor="t">
            <a:normAutofit fontScale="97000"/>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accords all children, regardless of their legal status, the right to be protected from abuse, neglect and exploita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otecting children necessitates knowledge of international and national law, as well as national policies and procedure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re are clear universal guidelines and legal protection for refugee and other displaced childre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and adolescents from employment that is likely to be hazardous, to interfere with their education, or to be harmful to their development.</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from sexual exploitation and abuse, as well as against trafficking, sale and abduc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xual violence is a gross violation of fundamental human rights and, </a:t>
            </a:r>
            <a:br>
              <a:rPr sz="1400"/>
            </a:br>
            <a:r>
              <a:rPr b="0" lang="en-GB" sz="1400" spc="-1" strike="noStrike">
                <a:solidFill>
                  <a:srgbClr val="000000"/>
                </a:solidFill>
                <a:latin typeface="Verdana"/>
              </a:rPr>
              <a:t>when committed in the context of armed conflict, a grave breach of humanitarian law.</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19 </a:t>
            </a:r>
            <a:br>
              <a:rPr sz="1400"/>
            </a:br>
            <a:r>
              <a:rPr b="0" lang="en-GB" sz="1400" spc="-1" strike="noStrike">
                <a:solidFill>
                  <a:srgbClr val="000000"/>
                </a:solidFill>
                <a:latin typeface="Verdana"/>
              </a:rPr>
              <a:t>Explicitly accords the child the right to be protected from abuse and neglect, without discrimination:</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States parties shall take all appropriate legislative, administrative, social and educational measures to protect the child from all forms of physical or mental violence, injury or abuse, neglect or negligent treatment, maltreatment or exploitation, including sexual abuse, while in the care of parent(s), legal guardian(s) or any other person who has the care of the child.</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7 </a:t>
            </a:r>
            <a:br>
              <a:rPr sz="1400"/>
            </a:br>
            <a:r>
              <a:rPr b="0" lang="en-GB" sz="1400" spc="-1" strike="noStrike">
                <a:solidFill>
                  <a:srgbClr val="000000"/>
                </a:solidFill>
                <a:latin typeface="Verdana"/>
              </a:rPr>
              <a:t>Explains that States parties are required to ensure that no child shall be subjected to torture or other cruel, inhuman or degrading treatment or punishment.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lear child rights assessment and analysis will help to determine how to prioritise actions against exploitation and abu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alitative and quantitative data when properly analysed and contextualised can point us in the direction of the correct intervention to enhance the rights of children to protection from abuse and exploita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olid situational analysis points to prevalence and severity of violations, as well as opportunities for immediate and longer-term ac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s experiences and their own proposed solutions are an essential </a:t>
            </a:r>
            <a:br>
              <a:rPr sz="1400"/>
            </a:br>
            <a:r>
              <a:rPr b="0" lang="en-GB" sz="1400" spc="-1" strike="noStrike">
                <a:solidFill>
                  <a:srgbClr val="000000"/>
                </a:solidFill>
                <a:latin typeface="Verdana"/>
              </a:rPr>
              <a:t>precondition for the development of strategies for preventive and interven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measures of abuse and exploitation are preferable to measures dealing with the consequenc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interventions and can include: livelihood issues, education and training, awareness raising; visible procedures for reporting and monitoring, and effective police and judicial system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sk factors are cumulative. Early intervention can both prevent more children from being harmed and prevent child survivors from being re-victimi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cus groups with children and a community-based model that is structured according to the child rights situational analysis will prove a solid base for interven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t is important to work in a multi-sectoral manner, as different actors will likely identify different forms of abuse and exploita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ccess of programme interventions must be measured at the individual level, particularly considering children who have experienced abuse or exploit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itoring and evaluation should assess whether children are being appropriately identified and protected from exploitation and abuse through programme implementation without causing stigmatis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monitoring and evaluation system should be set up at the start of a programme with indicators, collecting, analysing and using data to improve the wellbeing of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ghts-based monitoring and evaluation should be participatory, thereby involving children themselves, culturally appropriate, ethical and monitor fulfilment of rights as well a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3:56:34Z</dcterms:created>
  <dc:creator>Josh</dc:creator>
  <dc:description/>
  <dc:language>en-US</dc:language>
  <cp:lastModifiedBy>Stephen Young</cp:lastModifiedBy>
  <dcterms:modified xsi:type="dcterms:W3CDTF">2009-12-04T13:30:24Z</dcterms:modified>
  <cp:revision>41</cp:revision>
  <dc:subject/>
  <dc:title>Slide 1</dc:title>
</cp:coreProperties>
</file>