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891-AE8F-4A60-AC14-7728D95735C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9A6B-492D-48E2-990F-B62E41848AA5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ARC-logo-banner-esp.png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183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47920" y="229716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ae58"/>
                </a:solidFill>
                <a:latin typeface="Verdana"/>
                <a:ea typeface="Verdana"/>
              </a:rPr>
              <a:t>Módulo de Fundamentos 6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53ad57"/>
                </a:solidFill>
                <a:latin typeface="Verdana"/>
              </a:rPr>
              <a:t>Movilización comunitaria</a:t>
            </a:r>
            <a:endParaRPr b="1" lang="en-US" sz="3200" spc="-1" strike="noStrike">
              <a:solidFill>
                <a:srgbClr val="50ae58"/>
              </a:solidFill>
              <a:latin typeface="Verdana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094440" y="4122720"/>
            <a:ext cx="2332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Enfoques comunitarios con grupos y contextos específic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s basados en la comunidad con los ni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que son capaces de formar sus propios puntos de vista tienen derecho a expresarlos libremente, respecto de todas los asuntos que les afecten; debe darse la debida importancia a sus opiniones de acuerdo a su edad y grado de madurez  (Convención sobre los Derechos del Niño, Artículo 12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(o participación) de la infancia entre las poblaciones afectadas por las emergencias dará como resultado mejores iniciativas de protección; adicionalmente, las niñas y los niños involucrados a menudo sentirán un mayor bienestar y una mayor capacidad de resili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os adolescentes es particularmente importante ante la falta de oportunidades educativas y económicas, que pueden causar en ellos hastío, tristeza y pérdida de la autoestim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pueden hacer una gran contribución a su propia protección e incluso a la de terceros antes, durante y después de las emergencias, y pueden jugar un rol fundamental en los procesos posteriores a los conflictos y en la reconstrucción de comunidades pacíficas y más tolerant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organizaciones pueden apoyar y promover la movilización de niñas y niños, desarrollando para ello un enfoque estratégico, utilizando técnicas de participación adecuadas a su edad y construyendo e impulsando sus capacidad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con muje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mujeres tienen derecho a ser consultadas y a participar en la toma de decisiones que afecten sus vidas y las de sus familias. Siempre se debe hacer esfuerzos (con mucha sensibilidad de acuerdo al contexto) para abogar por la inclusión de las mujeres en la movilización comunitar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comunitaria de las mujeres por la protección de la infancia es de particular importancia debido a su rol al interior de las familias, la contribución que pueden hacer y, en algunas culturas, por su margina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presenta muchos desafíos relacionados con su propio rol o a las circunstancias que les toca vivir.  En consecuencia, se requiere efectuar esfuerzos específicos para asegurar su movi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implica el desarrollo de estructuras paralela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y distintas estrategias para enfocar la movilización social de las mujeres, y la selección de la más adecuada dependerá en gran parte de la situación concret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en contextos urban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refugiados y las personas desplazadas establecidas en zonas urbanas, o dispersas en áreas rurales, afrontarán dificultades y restricciones debido a la pérdida de los vínculos con su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relación entre los refugiados y los desplazados con la población local, en tales condiciones, se caracterizará por ser particularmente tens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 estas situaciones, los refugiados y las personas desplazadas sienten que no pertenecen ni a la comunidad local ni a la comunidad de refugiados y desplazad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á necesario desarrollar estrategias específicas según el contexto, a fin de contactar e involucrar a la población de acogida en dichas circunstanci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7920" y="53964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onceptos: la comunidad y los derechos del niño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aracterístic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Metodologí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Enfoques comunitarios con grupos y contextos específic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onceptos: la comunidad y los derechos del niño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no se expresan en una forma única y sencilla, sino que actúan de diversas maneras ante contextos o situaciones distintas. Por ello, es necesario conocer sus características individ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pueden ser concebidas como garantes de una serie de deberes colectivos en relación con los derechos del niño, y con frecuencia  constituyen un gran apoyo para las familias, especialmente cuando las estructuras estatales están comprometid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render la forma en la que el poder se manifiesta dentro de la comunidad y -en particular- saber quiénes tienen la capacidad para tomar decisiones en los asuntos referidos a la niñez, será fundamental para entender el modo en el que la comunidad funciona, se adapta, afronta los problemas y resuelve los desafíos (o quizás no lo hace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emergencias pueden menoscabar las habilidades de la comunidad, pero la capacidad de resiliencia generalmente hará posible reformar sus estructur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bajar con personas desplazadas requiere que uno se compenetre más con los miembros de la comunidad de acogida, que también son actores directamente involucrados, y atender sus inquietudes cada vez que sea factibl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Relación entre sujetos de derechos y garantes de derech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1-2-F6-1-slide-familyCommunityWheel.png"/>
          <p:cNvPicPr/>
          <p:nvPr/>
        </p:nvPicPr>
        <p:blipFill>
          <a:blip r:embed="rId1"/>
          <a:stretch/>
        </p:blipFill>
        <p:spPr>
          <a:xfrm>
            <a:off x="1447920" y="1079640"/>
            <a:ext cx="5657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aracterístic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implica trabajar en una relación de paridad (equivalencia, simetría) con las personas afectadas por las emergencias.  Reconoce y se apoya en su resiliencia, capacidades, habilidades y recursos para proporcionar protección y respuestas, además de apoyar las metas de la propia comunida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es una forma de trabajo que requiere de un constante conocimiento para dar soporte a las estructuras y dinámicas comunales, a fin de que las comunidades afectadas por las emergencias puedan empoderarse y trabajar para la protección de la infanc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basado en derechos, utilizado para trabajar en comunidades con el propósito de mejorar la vida de niñas, niños y adolescentes, tiene para el personal de servicio humanitario dos connotaciones primordiales: qué se ha hecho, y cómo se ha hech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nfoque de derechos requiere de apertura y transparencia sobre nuestros objetivos basados en derechos, y las obligaciones y responsabilidades correspondientes.  Ello significa que debemos crear un espacio para escuchar con atención a los miembros de la comunidad y trabajar en la construcción del entendimiento mutu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dos los niños y niñas, incluyendo a aquellos afectados por las emergencias, deben (siempre y cuando sea en consideración de su Interés Superior) ser apoyados en la realización de sus propias actividades y, además, tener la oportunidad de participar como agentes activos en los procesos y en la toma de decisiones sobre los asuntos que les afecta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Metodologí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e invertirse tiempo para comprender las particularidades de las comunidades en las que se lleva a cabo el trabajo humanitari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jercicio inicial debe preparar y sintetizar lo ya conocido, analizando la información y los datos existentes con el objetivo de no repetir el trabajo que ya se ha hech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actores directamente involucrados (socios estratégicos) pueden ser, al mismo tiempo, sujetos de derechos y garantes de derechos, y todos ellos deben ser escuchadas antes de tomar decisiones que les afecte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crucial establecer contacto adecuado con la comunidad, ya que a partir de los primeros esfuerzos se establecerá un patrón para la evolución de la relación entre la agencia y sus socios. Todo contacto deberá ajustarse a la medida de cada comunidad y sus context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levar a cabo tanto un análisis situacional como una evaluación participativa ayudará a comprender la manera en la que funciona la comunidad, y brindará el punto de partida para el establecimiento de un compromiso o sociedad entre la comunidad y la ag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importante entender cómo las comunidades toman las decisiones.  Identificar y documentar las distintas clases de estructuras de la comunidad y ubicar a sus líderes nos permitirá desarrollar una imagen de la manera en la que funciona la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principio clave de inicio para involucrarse con los asuntos de protección de la infancia es reconocer y construir sobre la base de las capacidades y fortalezas ya existentes, siempre y cuando sean favorables a los derechos del niñ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20:52Z</dcterms:created>
  <dc:creator>Josh</dc:creator>
  <dc:description/>
  <dc:language>en-US</dc:language>
  <cp:lastModifiedBy>Juan Bernales</cp:lastModifiedBy>
  <cp:lastPrinted>2009-10-29T17:18:39Z</cp:lastPrinted>
  <dcterms:modified xsi:type="dcterms:W3CDTF">2012-03-12T04:27:46Z</dcterms:modified>
  <cp:revision>185</cp:revision>
  <dc:subject/>
  <dc:title>Slide 1</dc:title>
</cp:coreProperties>
</file>